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750F-B59E-4BFD-9898-40206329A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8076-E0CC-4B27-A8A7-738B9E622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4360" y="4343040"/>
            <a:ext cx="548928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2D73-E494-4A87-A830-A7823E850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4360" y="4343040"/>
            <a:ext cx="548928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8078-C427-4AE1-9969-EBD882F00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4360" y="4343040"/>
            <a:ext cx="548928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F739-F2FB-4393-B1F7-5EAAAE0EB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4360" y="4343040"/>
            <a:ext cx="548928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4BC6-0858-4D6A-B7B2-14F51D7F1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4360" y="4343040"/>
            <a:ext cx="548928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ct performance across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p increases greater than total in all subgroups in 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p increases greater that total in 3/5  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ed by 3 in CA and 8 in 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16D1-C38F-4903-AEA6-581772A6B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4360" y="4343040"/>
            <a:ext cx="548928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9.4% of the District’s 1513 graduating seniors in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9AD1-14BD-4C1B-A570-28C8E366C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4360" y="4343040"/>
            <a:ext cx="548928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AA6A-A646-45B1-A231-1334EE31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0CC9-2A5B-4A8D-BB82-BBF5FCEA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BEB-0D5E-43A1-838C-9E3F722B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600E-3419-43D8-A2BF-2948EBE0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7B56-6682-4E81-9493-0FE24462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7452-F555-49BB-AAD9-75C4F8E1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0472-1890-409B-886F-22678E7E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65DB-1702-4FCB-91BF-857AC068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C410-47BC-4D00-80F1-C5EB6565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5953-187A-461C-9144-41F7BFB0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347D-05D2-4BF2-8F44-CB3451F8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9F7E-C1FB-44A0-B951-4A2DB851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6BE3-BE2A-41B9-B6A4-1F3458A3A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ed Data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2009-10 CSIP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YP Goal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Meet in 12/16 sub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lose the gaps in those groups who do not 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evement G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Big Picture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ily attend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han 10 abs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ion 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762120" y="549360"/>
            <a:ext cx="761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2009-2010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Board of Education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2280" y="2286000"/>
            <a:ext cx="96775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Identify and close learn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Align research-based strategies to improve teaching an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Implement and monitor a rigorous curriculum to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vance the achievement of all lear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Use PL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260280" y="0"/>
          <a:ext cx="8623440" cy="857160"/>
        </p:xfrm>
        <a:graphic>
          <a:graphicData uri="http://schemas.openxmlformats.org/drawingml/2006/table">
            <a:tbl>
              <a:tblPr/>
              <a:tblGrid>
                <a:gridCol w="5486400"/>
                <a:gridCol w="3137040"/>
              </a:tblGrid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ssouri Department of Elementary and Secondary Education</a:t>
                      </a:r>
                      <a:br>
                        <a:rPr sz="600"/>
                      </a:b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IS HOWELL R-III (092088 )</a:t>
                      </a:r>
                      <a:br>
                        <a:rPr sz="600"/>
                      </a:b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LIMINARY Adequate Yearly Progress**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756400" y="0"/>
          <a:ext cx="3117600" cy="838080"/>
        </p:xfrm>
        <a:graphic>
          <a:graphicData uri="http://schemas.openxmlformats.org/drawingml/2006/table">
            <a:tbl>
              <a:tblPr/>
              <a:tblGrid>
                <a:gridCol w="1461960"/>
                <a:gridCol w="876240"/>
                <a:gridCol w="779400"/>
              </a:tblGrid>
              <a:tr h="209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ups*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unication Art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hematic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ired Action:   District Improvement Level 3, Corrective Action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28600" y="847800"/>
          <a:ext cx="8667720" cy="882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47800"/>
                    <a:ext cx="8667720" cy="88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69800" y="343080"/>
          <a:ext cx="8070840" cy="62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43080"/>
                    <a:ext cx="807084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AYP—Adequate Yearly Progress</a:t>
            </a:r>
            <a:r>
              <a:rPr b="1" lang="en-US" sz="3200" spc="-1" strike="noStrike">
                <a:solidFill>
                  <a:srgbClr val="004182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ederal--NCL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04920" y="914400"/>
            <a:ext cx="8076960" cy="24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2008 GOAL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et benchmark in 12/16 MAP sub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et Additional Indicators—graduation rate and attendanc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et LEP—CA and 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et FRL—CA and 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4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28600" y="251460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09480" y="2590920"/>
          <a:ext cx="7620120" cy="4022640"/>
        </p:xfrm>
        <a:graphic>
          <a:graphicData uri="http://schemas.openxmlformats.org/drawingml/2006/table">
            <a:tbl>
              <a:tblPr/>
              <a:tblGrid>
                <a:gridCol w="4343400"/>
                <a:gridCol w="990720"/>
                <a:gridCol w="114300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=Met    NM=Not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an/Pacific Isla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n Americ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pa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/Reduced Lu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ua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ance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33520" y="-7632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82"/>
                </a:solidFill>
                <a:latin typeface="Tahoma"/>
              </a:rPr>
              <a:t>ACHIEVEMENT GAP CURRENT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28600" y="6324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LACK=Met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           RED=Not 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280" y="1143000"/>
          <a:ext cx="878868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3000"/>
                    <a:ext cx="87886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Line 6"/>
          <p:cNvSpPr/>
          <p:nvPr/>
        </p:nvSpPr>
        <p:spPr>
          <a:xfrm>
            <a:off x="4876920" y="1066680"/>
            <a:ext cx="0" cy="5181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219320" y="21276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914400" y="30492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182"/>
                </a:solidFill>
                <a:latin typeface="Tahoma"/>
              </a:rPr>
              <a:t>FHSD ACT 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8600" y="861840"/>
          <a:ext cx="8458200" cy="50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61840"/>
                    <a:ext cx="8458200" cy="50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5715000" y="6019920"/>
            <a:ext cx="29718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219320"/>
          <a:ext cx="8163000" cy="54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8163000" cy="54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Text Box 4"/>
          <p:cNvSpPr/>
          <p:nvPr/>
        </p:nvSpPr>
        <p:spPr>
          <a:xfrm>
            <a:off x="1219320" y="21276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57200" y="53640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182"/>
                </a:solidFill>
                <a:latin typeface="Tahoma"/>
              </a:rPr>
              <a:t>ACT Composite Score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ational Measur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SD Goal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5791320" y="5943600"/>
            <a:ext cx="312408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ORE                     23.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LESS THAN CORE 20.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2009-10 CSIP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PR Goal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  Meet 14/14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08-09 GOAL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09-10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 (6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-H1; 2 H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-H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22.8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3.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er 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16.4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.9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ge Place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75.8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er Ed Place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2.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d R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2.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end R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5.3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H1N1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grou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7.5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met in alt methods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5:54:24Z</dcterms:created>
  <dc:creator>mthendricks-harris</dc:creator>
  <dc:description/>
  <dc:language>en-US</dc:language>
  <cp:lastModifiedBy>teacher</cp:lastModifiedBy>
  <dcterms:modified xsi:type="dcterms:W3CDTF">2009-11-03T03:26:43Z</dcterms:modified>
  <cp:revision>2</cp:revision>
  <dc:subject/>
  <dc:title>Selected Data Slides</dc:title>
</cp:coreProperties>
</file>